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dt" idx="2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 type="sldNum" idx="3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6423-783F-4E8A-A1F5-3F978D32CAD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E390-049B-4B37-8464-DDE56B225EB9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NNa H</a:t>
            </a:r>
            <a:r>
              <a:rPr b="0" lang="cs-CZ" sz="1200" spc="-1" strike="noStrike">
                <a:solidFill>
                  <a:srgbClr val="ff0000"/>
                </a:solidFill>
                <a:latin typeface="Calibri"/>
              </a:rPr>
              <a:t>Pokud se žák přihlásil ve spol. části MZ k povinnému DT </a:t>
            </a:r>
            <a:br>
              <a:rPr sz="1200"/>
            </a:br>
            <a:r>
              <a:rPr b="0" lang="cs-CZ" sz="1200" spc="-1" strike="noStrike">
                <a:solidFill>
                  <a:srgbClr val="ff0000"/>
                </a:solidFill>
                <a:latin typeface="Calibri"/>
              </a:rPr>
              <a:t>z matematiky a ředitel určil pouze 2 další povinné zkoušky profilové části, nemůže žák nahradit povinnou zkoušku z cizího jazyka v profilové části. Může nahradit nepovinn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DP se ze 40 % podílí průmys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61E1-0353-47E5-A3CD-B499C2D5AAF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Na H</a:t>
            </a:r>
            <a:r>
              <a:rPr b="0" lang="cs-CZ" sz="1200" spc="-1" strike="noStrike">
                <a:solidFill>
                  <a:srgbClr val="ff0000"/>
                </a:solidFill>
                <a:latin typeface="Calibri"/>
              </a:rPr>
              <a:t>Pokud se žák přihlásil ve spol. části MZ k povinnému DT </a:t>
            </a:r>
            <a:br>
              <a:rPr sz="1200"/>
            </a:br>
            <a:r>
              <a:rPr b="0" lang="cs-CZ" sz="1200" spc="-1" strike="noStrike">
                <a:solidFill>
                  <a:srgbClr val="ff0000"/>
                </a:solidFill>
                <a:latin typeface="Calibri"/>
              </a:rPr>
              <a:t>z matematiky a ředitel určil pouze 2 další povinné zkoušky profilové části, nemůže žák nahradit povinnou zkoušku z cizího jazyka v profilové části. Může nahradit nepovinn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A16E-677F-4D39-A070-D742F8874669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B822-CB27-4B11-A0AD-2D08698E8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Na HDP se ze 40 % podílí průmys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65FD-7E87-440E-921A-C0E4FD4E9844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C8E49-21EF-4794-8623-D86DF59E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B28A2-4B57-493A-870A-92F889FB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8C9E0-00B1-427B-81D0-7FF168B8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96854-FCDA-462B-AF0D-99BF63A9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44345-99C9-42DD-A67E-CE811EDF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E0C6D-756E-46B1-8018-433CE332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218B3-53DD-457B-9638-4EE428B5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3495B-0A21-4704-9C45-9E0DA796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C0EE7-0D1A-46A6-A67D-F2F5097B4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4F7C7-D009-4F65-B8F3-59197481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118E9-9789-438B-A197-DFABF894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0DD9A-4A52-4A25-8752-B9E34C78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61041-83B3-498B-B613-B8D6C089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676FD-29EC-4CDD-92BB-0A16F403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24ADF-65B2-4862-9C17-894179AA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10F2F-8B65-483C-B7EF-841B1C66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CF890-1D33-408E-B617-B57B01F2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97619-5589-4BAA-AAF0-A967B60B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27FC3-30C5-4FC3-BE18-9E5FCBBD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989F8-C25D-4111-9BD0-BB05CD62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CC0F0-649E-43FD-BA82-15F2D99B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144F9-9814-4279-81F4-A8BD114C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7C48E-6DEF-4B8F-9B43-560AF33D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D51F2-6B34-4F81-AC7F-FC809BA0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B3987-455F-41B1-A682-0BC6584B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3CB5A-0D1E-4D6B-82EF-B7D672D3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73841-C6F7-40D9-8D6D-91F32328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98202-AC15-48D2-9A92-46852FB7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D1472-8FD5-4D6F-8E83-B576FBA1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2506D-2C33-43CA-8303-22D5F391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AD4BB-B9E1-4894-9912-5A41E60A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2F896-2818-454C-B917-B0E9DD85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9A47B-0694-4353-9C42-2C795E16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3315A-1589-4580-9D94-1A06DB87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00AC8-B3C1-476D-8947-4F0BB620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056FE-123E-4381-AE3B-4CFCC0B8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F2B18-B696-4E47-9645-1923BFF5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A1DEE-F96A-46B3-8853-734739B6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1F624-58F1-41B6-9A76-65C32B8F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D219E-6893-46F5-94EA-1F480876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37965-8704-486A-ADE7-2FDE9284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AAA44-2F34-4237-98D7-C8CF3B0F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911B7-6822-4633-BC7E-C36325AB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66335-EDB6-4FEB-AEF6-81911266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60DDB-8F54-4CB4-AD64-4FFEFBE0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B5D-1F9F-4546-BDA2-117DE3BE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EFB-A463-400B-A4E4-B47A9954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220-F275-4684-9972-48F3168C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0CB-0F19-476A-9349-1720D00B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99F6-C855-4424-AA28-5BFBD38E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CD1-40B4-40FA-86EB-2D374346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A46-77D8-463A-802E-0F5A2C89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FA88-49DD-4071-80B4-63E783D3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396-E645-48DC-989C-A8F2A871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58AB-8296-4D42-879B-29994BE9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B64-3337-4EB5-8341-D2621579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33A-23C4-44D0-882D-11900501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519E-4BCE-4396-9462-4284ECAB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3CCC-3945-4946-B01A-65BD074C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BFE5-F8E2-4C11-9DA3-7FE2215B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4BFB-64DE-4B39-AFAF-147B9C3F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0CE0-BEF8-4174-8A51-FCDCDB9E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86FA-2121-4352-A634-C75A5643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E264-70A9-4B82-AACD-61C058FB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AC2D-F923-459F-B477-6E82E3DD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3689-4945-4270-94D4-AC8615B6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5829-B53E-45F4-BA92-B66DA880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D9BB-9C2C-4350-8B97-D1F112E5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D175-C8CE-4DBB-A311-E30360EC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8EC55-A101-4290-BBDD-5FF86BF1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C9B42-BB58-48EA-A3CC-D1704774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DC7F0-FA30-45B8-865D-43F184D1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3EE2B-39E6-44F2-8D64-7E48B0C2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27BA0-70AC-4702-870A-71171164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16B9D-7A7A-4D1C-B910-FBEE2A2F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51644-CBE3-4F15-9EFF-AA3F79B7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A7F4E-3B93-492B-92A8-B2E052BF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B0451-7EBD-4FAA-87A9-85BE5CD4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36E4F-457F-4847-86E2-78A99007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F3E85-0F84-473A-93F7-71D6817C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F1834-2664-4295-9B8F-0EB80EA0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CFD3D-FD91-4AD9-A714-34BDC8E7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CEE0E-D237-4988-9756-B39656AA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2AB59-791C-4C44-9C89-ACBFF424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34A7A-B260-4968-987C-BDDB034A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E87BE-AC44-4145-99EE-F4742934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A41D0-A0E1-417B-B0E3-5D2BA6F4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3705-261A-41A4-8473-13EFBCB7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24595-96A1-432A-A090-8120026D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CE72D-8CC3-4AD8-A638-D06D3C75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52DAD-44D5-4EB9-80DD-E2E19CF9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0A358-B497-41AF-9229-9CC4015F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65327-12AB-4F58-A67F-09AE9A2F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F8F9B-5EBB-481B-AF3C-9A921FD8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A02B9-28A7-49B8-9184-2DEA4ED8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C770E-71B7-4C4E-A49A-E1FB2692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C5253-F7E5-4524-AD6A-1D12E820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2787E-F104-4E46-9767-8F475296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0E2B2-30C9-426E-8869-BBA88925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F5262-5933-42D0-A3FE-793A5605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5EEFE-4CB1-451C-9CA8-D1993091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D364A-A8A2-44F7-B9A2-86BC6E3D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D9CFA-5AAF-40BA-A877-0B950752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F0389-43CE-48AD-9BB4-2F6EE918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50B22-8C89-4AF6-AEEF-3592A8EF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64C55-D1E4-4026-913B-247E478A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FCA65-77D7-4490-AA0D-B84C3D4D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8E877-1CB2-4436-A17A-084C8136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4A60-4F67-4349-B26E-681AF96C2C17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9486-587A-42A7-9659-342DDB6EFA59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7BCC-02D7-46EC-978D-360D4CC125A6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457A-00D8-4DC4-BBDA-7420A55325F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DFC4-0215-491E-91B1-C6C53D68E9F4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B1AA-5099-4264-94C0-798C0D3F4FB2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FAB5-41B0-4850-94B3-1C100FFFED6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5E29-8388-4C93-A614-69E6EDCA570C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312D-D242-46F9-AE94-649F241D939A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A012-340B-458A-926C-6AC6A4CB100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61C1-4387-4A11-B410-E8DB56AC0DC4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TextovéPole 3"/>
          <p:cNvSpPr/>
          <p:nvPr/>
        </p:nvSpPr>
        <p:spPr>
          <a:xfrm>
            <a:off x="324000" y="6093000"/>
            <a:ext cx="187164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37D6-FF0B-4DB4-8B73-89949C1ACF89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3451-F0A4-43F0-B8FC-0A830BAC2463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F38C-7243-4C65-B9B8-FC4AC83F666C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1EED-1101-40E5-B9FA-CB34AAD529A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6110-8309-43DC-A55A-91AE7326ED32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B939-8FB1-4E60-BA4D-7BD207F0966A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F0C5-BACA-4DF0-8438-E58EBB79A0A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F5BB-AA8E-40CC-89B5-E0E937D010D9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B3F1-B7A2-4A37-B6F9-D801AE03A127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CF75-74AA-40F8-A27B-BD32B8CD982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8E89-0A1A-47C3-9CF2-E63524C63A10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08B0-4D3E-4D1F-99F5-95A8B740D1F4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CD6C-E94B-4F87-9EC5-7F2C99833EB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F6B6-883C-4F63-BA09-A73475DB3413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5972-31A0-40A5-AC34-52DAB003EB36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FAF5-1239-44FF-ACDE-4E72BC30203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F5E2-DA4B-4E18-B827-87169C0947F5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CF78-1707-4C05-B725-BBCAE71B508E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D21A-DB8F-420D-8972-ED0D6E294D1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Q-EcWwSw-Jc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msmt.cz/vzdelavani/skolstvi-v-cr/spolecny-evropsky-referencni-ramec-pro-jazyky?highlightWords=spole&#269;n&#253;+evropsk&#253;+referen&#269;n&#237;+r&#225;mec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987640" y="3357360"/>
            <a:ext cx="547056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060"/>
                </a:solidFill>
                <a:latin typeface="Calibri"/>
              </a:rPr>
              <a:t>Úroveň </a:t>
            </a:r>
            <a:r>
              <a:rPr b="0" lang="cs-CZ" sz="4000" spc="-1" strike="noStrike">
                <a:solidFill>
                  <a:srgbClr val="002060"/>
                </a:solidFill>
                <a:latin typeface="Calibri"/>
              </a:rPr>
              <a:t>maturitní </a:t>
            </a:r>
            <a:r>
              <a:rPr b="0" lang="en-GB" sz="4000" spc="-1" strike="noStrike">
                <a:solidFill>
                  <a:srgbClr val="002060"/>
                </a:solidFill>
                <a:latin typeface="Calibri"/>
              </a:rPr>
              <a:t>zkoušky dle SERR</a:t>
            </a:r>
            <a:r>
              <a:rPr b="0" lang="en-GB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cs-CZ" sz="4000" spc="-1" strike="noStrike">
                <a:solidFill>
                  <a:srgbClr val="002060"/>
                </a:solidFill>
                <a:latin typeface="Calibri"/>
              </a:rPr>
              <a:t>a pracovní listy</a:t>
            </a:r>
            <a:br>
              <a:rPr sz="4000"/>
            </a:br>
            <a:r>
              <a:rPr b="0" lang="cs-CZ" sz="4000" spc="-1" strike="noStrike">
                <a:solidFill>
                  <a:srgbClr val="002060"/>
                </a:solidFill>
                <a:latin typeface="Calibri"/>
              </a:rPr>
              <a:t>pro střední odborné školy</a:t>
            </a:r>
            <a:br>
              <a:rPr sz="4000"/>
            </a:b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059280" y="6021360"/>
            <a:ext cx="47844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Marie Černíková, MŠM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Obrázek 3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2000160" cy="1058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1116000" y="189000"/>
            <a:ext cx="7570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Návrh na zpracování tématu 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Hobbies and   free time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za použití listů CZVV  č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. 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Úvo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o děláte rád ve volném čase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ohl byste žít bez televize?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pis obráz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rovnání, místo, lidé, aktivity, počasí,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Fiktivní rozhov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ipravit program na volný den pro přítele z Ang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dborné té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ste kutil, popište Vaši dílnu a nářadí, které máte v díln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9" name="Obrázek 9" descr=""/>
          <p:cNvPicPr/>
          <p:nvPr/>
        </p:nvPicPr>
        <p:blipFill>
          <a:blip r:embed="rId1"/>
          <a:stretch/>
        </p:blipFill>
        <p:spPr>
          <a:xfrm>
            <a:off x="6875640" y="1123920"/>
            <a:ext cx="1811160" cy="3338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1186920" y="189000"/>
            <a:ext cx="7642440" cy="71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Další možné zapojení odborného cizího jazy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Tabul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rovnání a využití nástro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rovnání firem,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e SERR není možné, aby bylo vypsáno pouze téma zaměřené na odbornost, neboť by zpracování takového tématu vyžadovalo bezpochyby vyšší úroveň než B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1116000" y="1557000"/>
            <a:ext cx="757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gr. Martina Dočekal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učující anglického jazyka na SUPŠ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Uherském Hradišti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youtube.com/watch?v=Q-EcWwSw-J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Obrázek 2" descr=""/>
          <p:cNvPicPr/>
          <p:nvPr/>
        </p:nvPicPr>
        <p:blipFill>
          <a:blip r:embed="rId2"/>
          <a:stretch/>
        </p:blipFill>
        <p:spPr>
          <a:xfrm>
            <a:off x="2610000" y="115920"/>
            <a:ext cx="3678120" cy="1388880"/>
          </a:xfrm>
          <a:prstGeom prst="rect">
            <a:avLst/>
          </a:prstGeom>
          <a:ln w="0">
            <a:noFill/>
          </a:ln>
        </p:spPr>
      </p:pic>
      <p:pic>
        <p:nvPicPr>
          <p:cNvPr id="533" name="Obrázek 3" descr=""/>
          <p:cNvPicPr/>
          <p:nvPr/>
        </p:nvPicPr>
        <p:blipFill>
          <a:blip r:embed="rId3"/>
          <a:stretch/>
        </p:blipFill>
        <p:spPr>
          <a:xfrm>
            <a:off x="6516720" y="115920"/>
            <a:ext cx="2481120" cy="4181400"/>
          </a:xfrm>
          <a:prstGeom prst="rect">
            <a:avLst/>
          </a:prstGeom>
          <a:ln w="0">
            <a:noFill/>
          </a:ln>
        </p:spPr>
      </p:pic>
      <p:pic>
        <p:nvPicPr>
          <p:cNvPr id="534" name="Obrázek 4" descr=""/>
          <p:cNvPicPr/>
          <p:nvPr/>
        </p:nvPicPr>
        <p:blipFill>
          <a:blip r:embed="rId4"/>
          <a:stretch/>
        </p:blipFill>
        <p:spPr>
          <a:xfrm>
            <a:off x="1116000" y="3949560"/>
            <a:ext cx="5221440" cy="2700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TextShape 1" descr=""/>
          <p:cNvPicPr/>
          <p:nvPr/>
        </p:nvPicPr>
        <p:blipFill>
          <a:blip r:embed="rId1"/>
          <a:stretch/>
        </p:blipFill>
        <p:spPr>
          <a:xfrm>
            <a:off x="2200320" y="1152360"/>
            <a:ext cx="7572240" cy="5040360"/>
          </a:xfrm>
          <a:prstGeom prst="rect">
            <a:avLst/>
          </a:prstGeom>
          <a:ln w="0">
            <a:noFill/>
          </a:ln>
        </p:spPr>
      </p:pic>
      <p:sp>
        <p:nvSpPr>
          <p:cNvPr id="536" name="TextShape 2"/>
          <p:cNvSpPr/>
          <p:nvPr/>
        </p:nvSpPr>
        <p:spPr>
          <a:xfrm>
            <a:off x="0" y="13644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Calibri"/>
                <a:ea typeface="DejaVu Sans"/>
              </a:rPr>
              <a:t>Kritéria hodnocení ÚSTNÍ ZKOUŠK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Shap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39FB-F4B3-4B20-A1CF-DA5DDBBDD83E}" type="slidenum">
              <a:rPr b="1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Diagram 1" descr=""/>
          <p:cNvPicPr/>
          <p:nvPr/>
        </p:nvPicPr>
        <p:blipFill>
          <a:blip r:embed="rId2"/>
          <a:stretch/>
        </p:blipFill>
        <p:spPr>
          <a:xfrm>
            <a:off x="1523880" y="3029040"/>
            <a:ext cx="6096240" cy="3268440"/>
          </a:xfrm>
          <a:prstGeom prst="rect">
            <a:avLst/>
          </a:prstGeom>
          <a:ln w="0">
            <a:noFill/>
          </a:ln>
        </p:spPr>
      </p:pic>
      <p:pic>
        <p:nvPicPr>
          <p:cNvPr id="539" name="Diagram 3" descr=""/>
          <p:cNvPicPr/>
          <p:nvPr/>
        </p:nvPicPr>
        <p:blipFill>
          <a:blip r:embed="rId3"/>
          <a:stretch/>
        </p:blipFill>
        <p:spPr>
          <a:xfrm>
            <a:off x="1316160" y="1706400"/>
            <a:ext cx="6316560" cy="4310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1186920" y="189000"/>
            <a:ext cx="7642440" cy="71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Kritéria hodnoc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ipomenutí: Dle § 24 vyhl. č. 177/ 2009 Sb. je hodnocení písemné práce 40 % 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hodnocení ústní zkoušk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voří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60 %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elkového hodnocení zkušebního předmě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novení přesných kritérií je důležité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o hodnocení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ro argumentaci při odvolá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třeba stanovit procentuální úspěšnost pro uspění u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ústní zkouš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Rozdělit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čemu dát více a čemu méně bodů, neboť úkoly nejsou rovnocenné (část 1 je patrně nejlehčí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vrhuje se stanovit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ritéria hodnocení pro každou část zvlášť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iz dá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1186920" y="189000"/>
            <a:ext cx="7642440" cy="71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Pouze a jen můj návrh na hodnocení dle obtížnosti u tématu „zájmy a volný čas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Úvod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nejjednodušší – 1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opis obrázků,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rovnání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Fiktivní rozhovor,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sumarizace – 40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dborné téma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20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or! Je třeba si rozvrhnout čas tak, aby se nestalo, že o nejjednodušším tématu žák hovoří příliš dlouh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1116000" y="189000"/>
            <a:ext cx="7570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Návrh jak stanovit kritéria hodnocení ke každé úlo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luví k tématu či mimo tém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luví v celých větách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užívá složitější vyjadřovací prostředk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á bohatou slovní zásobu nebo opakoval stále stejná slov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ZOR nelze hodnotit celek …  celkový dojem „jako v krasobruslení“ je v jazykových zkouškách velmi zavádějíc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Zástupný symbol pro obsah 3" descr=""/>
          <p:cNvPicPr/>
          <p:nvPr/>
        </p:nvPicPr>
        <p:blipFill>
          <a:blip r:embed="rId1"/>
          <a:stretch/>
        </p:blipFill>
        <p:spPr>
          <a:xfrm>
            <a:off x="2340000" y="2058840"/>
            <a:ext cx="4824360" cy="3805560"/>
          </a:xfrm>
          <a:prstGeom prst="rect">
            <a:avLst/>
          </a:prstGeom>
          <a:ln w="0">
            <a:noFill/>
          </a:ln>
        </p:spPr>
      </p:pic>
      <p:sp>
        <p:nvSpPr>
          <p:cNvPr id="544" name="Obdélník 4"/>
          <p:cNvSpPr/>
          <p:nvPr/>
        </p:nvSpPr>
        <p:spPr>
          <a:xfrm>
            <a:off x="1042920" y="1413000"/>
            <a:ext cx="58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 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ezaujmou šedé myši“,…, učitel musí umět žákovi vysvětlit, proč dostal např. horší znám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TextShape 1" descr=""/>
          <p:cNvPicPr/>
          <p:nvPr/>
        </p:nvPicPr>
        <p:blipFill>
          <a:blip r:embed="rId1"/>
          <a:stretch/>
        </p:blipFill>
        <p:spPr>
          <a:xfrm>
            <a:off x="2193840" y="1255680"/>
            <a:ext cx="7572600" cy="5041800"/>
          </a:xfrm>
          <a:prstGeom prst="rect">
            <a:avLst/>
          </a:prstGeom>
          <a:ln w="0">
            <a:noFill/>
          </a:ln>
        </p:spPr>
      </p:pic>
      <p:sp>
        <p:nvSpPr>
          <p:cNvPr id="546" name="TextShape 2"/>
          <p:cNvSpPr/>
          <p:nvPr/>
        </p:nvSpPr>
        <p:spPr>
          <a:xfrm>
            <a:off x="0" y="13644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Calibri"/>
                <a:ea typeface="DejaVu Sans"/>
              </a:rPr>
              <a:t>Nahrazení zkoušky z CJ  jazykovým certifiká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Shap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66AF-A082-46F8-AFFB-A8531ED7F652}" type="slidenum">
              <a:rPr b="1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Obrázek 13" descr=""/>
          <p:cNvPicPr/>
          <p:nvPr/>
        </p:nvPicPr>
        <p:blipFill>
          <a:blip r:embed="rId2"/>
          <a:stretch/>
        </p:blipFill>
        <p:spPr>
          <a:xfrm>
            <a:off x="5730840" y="1004760"/>
            <a:ext cx="3552840" cy="1217880"/>
          </a:xfrm>
          <a:prstGeom prst="rect">
            <a:avLst/>
          </a:prstGeom>
          <a:ln w="0">
            <a:noFill/>
          </a:ln>
        </p:spPr>
      </p:pic>
      <p:pic>
        <p:nvPicPr>
          <p:cNvPr id="549" name="Diagram 1" descr=""/>
          <p:cNvPicPr/>
          <p:nvPr/>
        </p:nvPicPr>
        <p:blipFill>
          <a:blip r:embed="rId3"/>
          <a:stretch/>
        </p:blipFill>
        <p:spPr>
          <a:xfrm>
            <a:off x="1762200" y="2266920"/>
            <a:ext cx="6534000" cy="4110120"/>
          </a:xfrm>
          <a:prstGeom prst="rect">
            <a:avLst/>
          </a:prstGeom>
          <a:ln w="0">
            <a:noFill/>
          </a:ln>
        </p:spPr>
      </p:pic>
      <p:pic>
        <p:nvPicPr>
          <p:cNvPr id="550" name="Diagram 3" descr=""/>
          <p:cNvPicPr/>
          <p:nvPr/>
        </p:nvPicPr>
        <p:blipFill>
          <a:blip r:embed="rId4"/>
          <a:stretch/>
        </p:blipFill>
        <p:spPr>
          <a:xfrm>
            <a:off x="1285920" y="2036880"/>
            <a:ext cx="6254640" cy="428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TextShape 1" descr=""/>
          <p:cNvPicPr/>
          <p:nvPr/>
        </p:nvPicPr>
        <p:blipFill>
          <a:blip r:embed="rId1"/>
          <a:stretch/>
        </p:blipFill>
        <p:spPr>
          <a:xfrm>
            <a:off x="2193840" y="1231920"/>
            <a:ext cx="7572600" cy="5040360"/>
          </a:xfrm>
          <a:prstGeom prst="rect">
            <a:avLst/>
          </a:prstGeom>
          <a:ln w="0">
            <a:noFill/>
          </a:ln>
        </p:spPr>
      </p:pic>
      <p:sp>
        <p:nvSpPr>
          <p:cNvPr id="552" name="TextShape 2"/>
          <p:cNvSpPr/>
          <p:nvPr/>
        </p:nvSpPr>
        <p:spPr>
          <a:xfrm>
            <a:off x="0" y="13644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Calibri"/>
                <a:ea typeface="DejaVu Sans"/>
              </a:rPr>
              <a:t>Nahrazení zkoušky z CJ  jazykovým certifikátem doplně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Shap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CBFA-71F7-432A-8BC1-D2C0D6D3B430}" type="slidenum">
              <a:rPr b="1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Diagram 1" descr=""/>
          <p:cNvPicPr/>
          <p:nvPr/>
        </p:nvPicPr>
        <p:blipFill>
          <a:blip r:embed="rId2"/>
          <a:stretch/>
        </p:blipFill>
        <p:spPr>
          <a:xfrm>
            <a:off x="1762200" y="2266920"/>
            <a:ext cx="6534000" cy="4110120"/>
          </a:xfrm>
          <a:prstGeom prst="rect">
            <a:avLst/>
          </a:prstGeom>
          <a:ln w="0">
            <a:noFill/>
          </a:ln>
        </p:spPr>
      </p:pic>
      <p:pic>
        <p:nvPicPr>
          <p:cNvPr id="555" name="Diagram 3" descr=""/>
          <p:cNvPicPr/>
          <p:nvPr/>
        </p:nvPicPr>
        <p:blipFill>
          <a:blip r:embed="rId3"/>
          <a:stretch/>
        </p:blipFill>
        <p:spPr>
          <a:xfrm>
            <a:off x="1274760" y="1773360"/>
            <a:ext cx="6265800" cy="4548240"/>
          </a:xfrm>
          <a:prstGeom prst="rect">
            <a:avLst/>
          </a:prstGeom>
          <a:ln w="0">
            <a:noFill/>
          </a:ln>
        </p:spPr>
      </p:pic>
      <p:sp>
        <p:nvSpPr>
          <p:cNvPr id="556" name="Přímá spojnice 4"/>
          <p:cNvSpPr/>
          <p:nvPr/>
        </p:nvSpPr>
        <p:spPr>
          <a:xfrm>
            <a:off x="5958000" y="2995560"/>
            <a:ext cx="627120" cy="38736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římá spojnice 13"/>
          <p:cNvSpPr/>
          <p:nvPr/>
        </p:nvSpPr>
        <p:spPr>
          <a:xfrm flipV="1">
            <a:off x="4572000" y="3149280"/>
            <a:ext cx="0" cy="98280"/>
          </a:xfrm>
          <a:prstGeom prst="line">
            <a:avLst/>
          </a:prstGeom>
          <a:ln w="9360">
            <a:solidFill>
              <a:srgbClr val="3d8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Volný tvar: obrazec 14"/>
          <p:cNvSpPr/>
          <p:nvPr/>
        </p:nvSpPr>
        <p:spPr>
          <a:xfrm>
            <a:off x="3456000" y="2692440"/>
            <a:ext cx="981000" cy="2709720"/>
          </a:xfrm>
          <a:custGeom>
            <a:avLst/>
            <a:gdLst/>
            <a:ahLst/>
            <a:rect l="l" t="t" r="r" b="b"/>
            <a:pathLst>
              <a:path w="980653" h="3062767">
                <a:moveTo>
                  <a:pt x="972718" y="464234"/>
                </a:moveTo>
                <a:cubicBezTo>
                  <a:pt x="832041" y="248529"/>
                  <a:pt x="691364" y="32825"/>
                  <a:pt x="550687" y="42203"/>
                </a:cubicBezTo>
                <a:cubicBezTo>
                  <a:pt x="410010" y="51581"/>
                  <a:pt x="213063" y="58615"/>
                  <a:pt x="128657" y="520504"/>
                </a:cubicBezTo>
                <a:cubicBezTo>
                  <a:pt x="44251" y="982393"/>
                  <a:pt x="-61258" y="2445433"/>
                  <a:pt x="44250" y="2813538"/>
                </a:cubicBezTo>
                <a:cubicBezTo>
                  <a:pt x="149758" y="3181643"/>
                  <a:pt x="611648" y="3132406"/>
                  <a:pt x="761703" y="2729132"/>
                </a:cubicBezTo>
                <a:cubicBezTo>
                  <a:pt x="911758" y="2325858"/>
                  <a:pt x="1047746" y="829994"/>
                  <a:pt x="944583" y="393895"/>
                </a:cubicBezTo>
                <a:cubicBezTo>
                  <a:pt x="841420" y="-42204"/>
                  <a:pt x="255265" y="173501"/>
                  <a:pt x="142724" y="112541"/>
                </a:cubicBezTo>
                <a:cubicBezTo>
                  <a:pt x="30183" y="51581"/>
                  <a:pt x="224786" y="46892"/>
                  <a:pt x="269334" y="28135"/>
                </a:cubicBezTo>
                <a:cubicBezTo>
                  <a:pt x="313882" y="9378"/>
                  <a:pt x="372496" y="0"/>
                  <a:pt x="410010" y="0"/>
                </a:cubicBezTo>
                <a:cubicBezTo>
                  <a:pt x="447524" y="0"/>
                  <a:pt x="440491" y="14067"/>
                  <a:pt x="494417" y="28135"/>
                </a:cubicBezTo>
                <a:cubicBezTo>
                  <a:pt x="548343" y="42203"/>
                  <a:pt x="733567" y="84406"/>
                  <a:pt x="733567" y="84406"/>
                </a:cubicBezTo>
                <a:lnTo>
                  <a:pt x="733567" y="84406"/>
                </a:lnTo>
              </a:path>
            </a:pathLst>
          </a:custGeom>
          <a:noFill/>
          <a:ln w="25560">
            <a:solidFill>
              <a:srgbClr val="2d67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římá spojnice 17"/>
          <p:cNvSpPr/>
          <p:nvPr/>
        </p:nvSpPr>
        <p:spPr>
          <a:xfrm flipH="1">
            <a:off x="5866920" y="2946240"/>
            <a:ext cx="809640" cy="43668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1332000" y="333000"/>
            <a:ext cx="7354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cs-CZ" sz="3700" spc="-1" strike="noStrike">
                <a:solidFill>
                  <a:srgbClr val="ffff00"/>
                </a:solidFill>
                <a:latin typeface="Calibri"/>
              </a:rPr>
              <a:t>Program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9:00 – 9:45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Úvod – shrnutí legislativního rám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Mgr. Štěpánka Thérová, vedoucí oddělení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šeobecného vzdělávání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9:45 – 10:15 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Úroveň maturitní zkoušky dle SERR a pracovní listy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ro střední odborné školy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hDr. Marie Černíkov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10:15 – 11:00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Odpovědi na dotazy z prax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Mgr. Andrea Králová, Mgr. Štěpánka Thérov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cs-CZ" sz="1900" spc="-1" strike="noStrike">
                <a:solidFill>
                  <a:srgbClr val="e46c0a"/>
                </a:solidFill>
                <a:latin typeface="Calibri"/>
              </a:rPr>
              <a:t>přestávk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11:15 – 11:45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Úroveň maturitní zkoušky dle SERR a pracovní listy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ro gymnáz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11:45 – 13:00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Odpovědi na dotazy z praxe a disku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Mgr. Andrea Králová, Mgr. Štěpánka Thérov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Obrázek 3" descr=""/>
          <p:cNvPicPr/>
          <p:nvPr/>
        </p:nvPicPr>
        <p:blipFill>
          <a:blip r:embed="rId1"/>
          <a:stretch/>
        </p:blipFill>
        <p:spPr>
          <a:xfrm>
            <a:off x="4313160" y="3860640"/>
            <a:ext cx="1392480" cy="973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1116000" y="1557000"/>
            <a:ext cx="757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2060"/>
                </a:solidFill>
                <a:latin typeface="Calibri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2060"/>
                </a:solidFill>
                <a:latin typeface="Calibri"/>
              </a:rPr>
              <a:t>Marie Černíkov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Osn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F793-6B53-4069-A643-1EAB6AFA8293}" type="slidenum"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9" name="Diagram 4" descr=""/>
          <p:cNvPicPr/>
          <p:nvPr/>
        </p:nvPicPr>
        <p:blipFill>
          <a:blip r:embed="rId1"/>
          <a:stretch/>
        </p:blipFill>
        <p:spPr>
          <a:xfrm>
            <a:off x="1487520" y="1182600"/>
            <a:ext cx="6199200" cy="5175360"/>
          </a:xfrm>
          <a:prstGeom prst="rect">
            <a:avLst/>
          </a:prstGeom>
          <a:ln w="0">
            <a:noFill/>
          </a:ln>
        </p:spPr>
      </p:pic>
      <p:pic>
        <p:nvPicPr>
          <p:cNvPr id="500" name="Obrázek 9" descr=""/>
          <p:cNvPicPr/>
          <p:nvPr/>
        </p:nvPicPr>
        <p:blipFill>
          <a:blip r:embed="rId2"/>
          <a:stretch/>
        </p:blipFill>
        <p:spPr>
          <a:xfrm>
            <a:off x="1604880" y="1515960"/>
            <a:ext cx="1355760" cy="911160"/>
          </a:xfrm>
          <a:prstGeom prst="rect">
            <a:avLst/>
          </a:prstGeom>
          <a:ln w="0">
            <a:noFill/>
          </a:ln>
        </p:spPr>
      </p:pic>
      <p:pic>
        <p:nvPicPr>
          <p:cNvPr id="501" name="Obrázek 2" descr=""/>
          <p:cNvPicPr/>
          <p:nvPr/>
        </p:nvPicPr>
        <p:blipFill>
          <a:blip r:embed="rId3"/>
          <a:stretch/>
        </p:blipFill>
        <p:spPr>
          <a:xfrm>
            <a:off x="1835280" y="2698920"/>
            <a:ext cx="865080" cy="80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Shape 1"/>
          <p:cNvSpPr/>
          <p:nvPr/>
        </p:nvSpPr>
        <p:spPr>
          <a:xfrm>
            <a:off x="1266840" y="2136600"/>
            <a:ext cx="728352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Shape 2"/>
          <p:cNvSpPr/>
          <p:nvPr/>
        </p:nvSpPr>
        <p:spPr>
          <a:xfrm>
            <a:off x="179280" y="38412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Calibri"/>
                <a:ea typeface="DejaVu Sans"/>
              </a:rPr>
              <a:t>	</a:t>
            </a:r>
            <a:r>
              <a:rPr b="0" lang="cs-CZ" sz="3600" spc="-1" strike="noStrike">
                <a:solidFill>
                  <a:srgbClr val="ffff00"/>
                </a:solidFill>
                <a:latin typeface="Calibri"/>
                <a:ea typeface="DejaVu Sans"/>
              </a:rPr>
              <a:t>    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  <a:ea typeface="DejaVu Sans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  <a:ea typeface="DejaVu Sans"/>
              </a:rPr>
              <a:t>Klasifikace zkoušek dle AL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Diagram 2" descr=""/>
          <p:cNvPicPr/>
          <p:nvPr/>
        </p:nvPicPr>
        <p:blipFill>
          <a:blip r:embed="rId1"/>
          <a:stretch/>
        </p:blipFill>
        <p:spPr>
          <a:xfrm>
            <a:off x="1523880" y="2225520"/>
            <a:ext cx="6145200" cy="3237120"/>
          </a:xfrm>
          <a:prstGeom prst="rect">
            <a:avLst/>
          </a:prstGeom>
          <a:ln w="0">
            <a:noFill/>
          </a:ln>
        </p:spPr>
      </p:pic>
      <p:pic>
        <p:nvPicPr>
          <p:cNvPr id="505" name="Diagram 5" descr=""/>
          <p:cNvPicPr/>
          <p:nvPr/>
        </p:nvPicPr>
        <p:blipFill>
          <a:blip r:embed="rId2"/>
          <a:stretch/>
        </p:blipFill>
        <p:spPr>
          <a:xfrm>
            <a:off x="1523880" y="215748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506" name="Obdélník 3"/>
          <p:cNvSpPr/>
          <p:nvPr/>
        </p:nvSpPr>
        <p:spPr>
          <a:xfrm>
            <a:off x="1916280" y="1374840"/>
            <a:ext cx="6143400" cy="76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2060"/>
                </a:solidFill>
                <a:latin typeface="Calibri"/>
                <a:ea typeface="Arial"/>
              </a:rPr>
              <a:t>Maturitní zkouška se řadí mezi tzv. „</a:t>
            </a:r>
            <a:r>
              <a:rPr b="0" lang="cs-CZ" sz="3600" spc="-1" strike="noStrike">
                <a:solidFill>
                  <a:srgbClr val="ff0000"/>
                </a:solidFill>
                <a:latin typeface="Calibri"/>
                <a:ea typeface="Arial"/>
              </a:rPr>
              <a:t>zkoušky nejvyšší důležitosti</a:t>
            </a:r>
            <a:r>
              <a:rPr b="0" lang="cs-CZ" sz="3600" spc="-1" strike="noStrike">
                <a:solidFill>
                  <a:srgbClr val="002060"/>
                </a:solidFill>
                <a:latin typeface="Calibri"/>
                <a:ea typeface="Arial"/>
              </a:rPr>
              <a:t>“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  <a:ea typeface="Arial"/>
              </a:rPr>
              <a:t>Jedná se o zkoušky, jejichž složení je  nezbytné pro získání vyšší kvalifikace či jiného statu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2060"/>
                </a:solidFill>
                <a:latin typeface="Calibri"/>
                <a:ea typeface="Arial"/>
              </a:rPr>
              <a:t>Kromě maturitních zkoušek se jedná o zkoušky pro trvalý pobyt a zkoušky pro občanství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____________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Výběr CJ omezen: musí být v ŠVP daného oboru (min. 4 ho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Obrázek 1" descr=""/>
          <p:cNvPicPr/>
          <p:nvPr/>
        </p:nvPicPr>
        <p:blipFill>
          <a:blip r:embed="rId3"/>
          <a:stretch/>
        </p:blipFill>
        <p:spPr>
          <a:xfrm>
            <a:off x="6226200" y="911160"/>
            <a:ext cx="3006720" cy="127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TextShape 1" descr=""/>
          <p:cNvPicPr/>
          <p:nvPr/>
        </p:nvPicPr>
        <p:blipFill>
          <a:blip r:embed="rId1"/>
          <a:stretch/>
        </p:blipFill>
        <p:spPr>
          <a:xfrm>
            <a:off x="1170000" y="1152360"/>
            <a:ext cx="7754760" cy="5132520"/>
          </a:xfrm>
          <a:prstGeom prst="rect">
            <a:avLst/>
          </a:prstGeom>
          <a:ln w="0">
            <a:noFill/>
          </a:ln>
        </p:spPr>
      </p:pic>
      <p:sp>
        <p:nvSpPr>
          <p:cNvPr id="509" name="TextShape 2"/>
          <p:cNvSpPr/>
          <p:nvPr/>
        </p:nvSpPr>
        <p:spPr>
          <a:xfrm>
            <a:off x="-6192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              </a:t>
            </a:r>
            <a:r>
              <a:rPr b="0" lang="cs-CZ" sz="3600" spc="-1" strike="noStrike">
                <a:solidFill>
                  <a:srgbClr val="ffff00"/>
                </a:solidFill>
                <a:latin typeface="Calibri"/>
                <a:ea typeface="DejaVu Sans"/>
              </a:rPr>
              <a:t>MZ a výstupní úroveň dle RV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Shap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8D41-4EBE-46FA-A351-D6610CD4FBC4}" type="slidenum">
              <a:rPr b="1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Řečová bublina: oválný bublinový popisek 8"/>
          <p:cNvSpPr/>
          <p:nvPr/>
        </p:nvSpPr>
        <p:spPr>
          <a:xfrm>
            <a:off x="633240" y="2565360"/>
            <a:ext cx="2124360" cy="1496880"/>
          </a:xfrm>
          <a:prstGeom prst="wedgeEllipseCallout">
            <a:avLst>
              <a:gd name="adj1" fmla="val 26824"/>
              <a:gd name="adj2" fmla="val 92884"/>
            </a:avLst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Společná část  - B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Řečová bublina: oválný bublinový popisek 9"/>
          <p:cNvSpPr/>
          <p:nvPr/>
        </p:nvSpPr>
        <p:spPr>
          <a:xfrm>
            <a:off x="5324400" y="2679840"/>
            <a:ext cx="2124000" cy="1498320"/>
          </a:xfrm>
          <a:prstGeom prst="wedgeEllipseCallout">
            <a:avLst>
              <a:gd name="adj1" fmla="val -26064"/>
              <a:gd name="adj2" fmla="val 105060"/>
            </a:avLst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rofilová čá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B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Obrázek 2" descr=""/>
          <p:cNvPicPr/>
          <p:nvPr/>
        </p:nvPicPr>
        <p:blipFill>
          <a:blip r:embed="rId2"/>
          <a:stretch/>
        </p:blipFill>
        <p:spPr>
          <a:xfrm>
            <a:off x="5837400" y="1019160"/>
            <a:ext cx="1687320" cy="1157400"/>
          </a:xfrm>
          <a:prstGeom prst="rect">
            <a:avLst/>
          </a:prstGeom>
          <a:ln w="0">
            <a:noFill/>
          </a:ln>
        </p:spPr>
      </p:pic>
      <p:pic>
        <p:nvPicPr>
          <p:cNvPr id="514" name="Obrázek 6" descr=""/>
          <p:cNvPicPr/>
          <p:nvPr/>
        </p:nvPicPr>
        <p:blipFill>
          <a:blip r:embed="rId3"/>
          <a:stretch/>
        </p:blipFill>
        <p:spPr>
          <a:xfrm>
            <a:off x="7524720" y="954000"/>
            <a:ext cx="1811520" cy="1152720"/>
          </a:xfrm>
          <a:prstGeom prst="rect">
            <a:avLst/>
          </a:prstGeom>
          <a:ln w="0">
            <a:noFill/>
          </a:ln>
        </p:spPr>
      </p:pic>
      <p:pic>
        <p:nvPicPr>
          <p:cNvPr id="515" name="Obrázek 11" descr=""/>
          <p:cNvPicPr/>
          <p:nvPr/>
        </p:nvPicPr>
        <p:blipFill>
          <a:blip r:embed="rId4"/>
          <a:stretch/>
        </p:blipFill>
        <p:spPr>
          <a:xfrm>
            <a:off x="2540160" y="4094280"/>
            <a:ext cx="3025440" cy="2284200"/>
          </a:xfrm>
          <a:prstGeom prst="rect">
            <a:avLst/>
          </a:prstGeom>
          <a:ln w="0">
            <a:noFill/>
          </a:ln>
        </p:spPr>
      </p:pic>
      <p:sp>
        <p:nvSpPr>
          <p:cNvPr id="516" name="Obdélník 12"/>
          <p:cNvSpPr/>
          <p:nvPr/>
        </p:nvSpPr>
        <p:spPr>
          <a:xfrm>
            <a:off x="2540160" y="5013360"/>
            <a:ext cx="591840" cy="360360"/>
          </a:xfrm>
          <a:prstGeom prst="rect">
            <a:avLst/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Obdélník 14"/>
          <p:cNvSpPr/>
          <p:nvPr/>
        </p:nvSpPr>
        <p:spPr>
          <a:xfrm>
            <a:off x="4716360" y="5156280"/>
            <a:ext cx="849240" cy="358560"/>
          </a:xfrm>
          <a:prstGeom prst="rect">
            <a:avLst/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Obdélník 16"/>
          <p:cNvSpPr/>
          <p:nvPr/>
        </p:nvSpPr>
        <p:spPr>
          <a:xfrm>
            <a:off x="4716360" y="4795920"/>
            <a:ext cx="849240" cy="360360"/>
          </a:xfrm>
          <a:prstGeom prst="rect">
            <a:avLst/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Ú Z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74872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0316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           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Od roku 2021</a:t>
            </a:r>
            <a:br>
              <a:rPr sz="2800"/>
            </a:br>
            <a:r>
              <a:rPr b="0" lang="cs-CZ" sz="28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tematické okruhy dle oborů vzděl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1017-F6A0-48B4-AFCF-E3A990E95094}" type="slidenum"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Obdélník 3"/>
          <p:cNvSpPr/>
          <p:nvPr/>
        </p:nvSpPr>
        <p:spPr>
          <a:xfrm>
            <a:off x="1763640" y="2133720"/>
            <a:ext cx="61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§ 14 d)   odst. 2 vyhlášky č. 177/ 2009 Sb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u oborů vzdělání s kódovým označením kategorie dosaženého vzdělání M a L je součástí pracovního listu i </a:t>
            </a:r>
            <a:r>
              <a:rPr b="0" i="1" lang="cs-CZ" sz="2400" spc="-1" strike="noStrike">
                <a:solidFill>
                  <a:srgbClr val="ff0000"/>
                </a:solidFill>
                <a:latin typeface="Calibri"/>
                <a:ea typeface="Calibri"/>
              </a:rPr>
              <a:t>zadání ověřující znalost terminologie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Calibri"/>
                <a:ea typeface="Calibri"/>
              </a:rPr>
              <a:t>vztahující se ke vzdělávací oblasti odborného vzdělávání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“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Řečová bublina: obdélníkový bublinový popisek 4"/>
          <p:cNvSpPr/>
          <p:nvPr/>
        </p:nvSpPr>
        <p:spPr>
          <a:xfrm>
            <a:off x="1332000" y="4941720"/>
            <a:ext cx="2232000" cy="1008360"/>
          </a:xfrm>
          <a:prstGeom prst="wedgeRectCallout">
            <a:avLst>
              <a:gd name="adj1" fmla="val 39365"/>
              <a:gd name="adj2" fmla="val -100768"/>
            </a:avLst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Zadání úloh musí splňovat náročnost B1 dle SER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Řečová bublina: obdélníkový bublinový popisek 5"/>
          <p:cNvSpPr/>
          <p:nvPr/>
        </p:nvSpPr>
        <p:spPr>
          <a:xfrm>
            <a:off x="4859280" y="4941720"/>
            <a:ext cx="2089080" cy="1008360"/>
          </a:xfrm>
          <a:prstGeom prst="wedgeRectCallout">
            <a:avLst>
              <a:gd name="adj1" fmla="val -67125"/>
              <a:gd name="adj2" fmla="val -111023"/>
            </a:avLst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rovázání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s téma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1332000" y="333000"/>
            <a:ext cx="7354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Společný evropský referenční rám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alibri"/>
              </a:rPr>
              <a:t>Companion volu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Společný evropský referenční rámec (SER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msmt.cz/vzdelavani/skolstvi-v-cr/spolecny-evropsky-referencni-ramec-pro-jazyky?highlightWords=spole%C4%8Dn%C3%BD+evropsk%C3%BD+referen%C4%8Dn%C3%AD+r%C3%A1me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ERR byl rozšířen o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Companion volum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poslední verze je z roku 2020 (rozpracována mediace, přidány + úrovně, rozpracovány úrovně pro žák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ttps://rm.coe.int/common-european-framework-of-reference-for-languages-learning-teaching/16809ea0d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Obrázek 2" descr=""/>
          <p:cNvPicPr/>
          <p:nvPr/>
        </p:nvPicPr>
        <p:blipFill>
          <a:blip r:embed="rId2"/>
          <a:stretch/>
        </p:blipFill>
        <p:spPr>
          <a:xfrm>
            <a:off x="6443640" y="115920"/>
            <a:ext cx="2514600" cy="2436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1042560" y="549000"/>
            <a:ext cx="76438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Úroveň B1 dle SER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um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rátkým a středně dlouhým jednoduchým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xtům, které se vztahují ke konkrétním a běžným tématům a situacím, s nimiž se žák může setkat v každodenním životě, při cestování, v práci, ve škole, ve volném čase,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ochopí hlavní myšlenku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porozumí hlavním bodům promluvy, podrobnostem v psaném textu, vyhledá a pochopí informace, pochopí orientační pokyny ap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mí napsat jednoduchý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ouvislý text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a témata, která dobře zná nebo která ho/ji osobně zajímají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okáže popsat své zážitky a události, sny, naděje a cíle a um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tručně vysvětlit a odůvodnit své názory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 plány apo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Umí si poradit s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ětšinou situací, jež mohou nastat při pobyt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oblasti, kde se jazykem mluv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Reaguje na otázky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a všeobecná témata, dokáže vést samostatný ústní projev i zahájit , udržet a ukončit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interakci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s partnerem v komunikac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Zástupný symbol pro obsah 1" descr=""/>
          <p:cNvPicPr/>
          <p:nvPr/>
        </p:nvPicPr>
        <p:blipFill>
          <a:blip r:embed="rId1"/>
          <a:stretch/>
        </p:blipFill>
        <p:spPr>
          <a:xfrm>
            <a:off x="1011240" y="237960"/>
            <a:ext cx="7931160" cy="6357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0:41:53Z</dcterms:created>
  <dc:creator>User</dc:creator>
  <dc:description/>
  <dc:language>en-US</dc:language>
  <cp:lastModifiedBy>Černíková Marie</cp:lastModifiedBy>
  <cp:lastPrinted>2021-09-29T15:54:22Z</cp:lastPrinted>
  <dcterms:modified xsi:type="dcterms:W3CDTF">2021-09-29T15:56:38Z</dcterms:modified>
  <cp:revision>457</cp:revision>
  <dc:subject/>
  <dc:title>Státní podpora sportu  pro rok 201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1</vt:r8>
  </property>
  <property fmtid="{D5CDD505-2E9C-101B-9397-08002B2CF9AE}" pid="6" name="Notes">
    <vt:r8>0</vt:r8>
  </property>
  <property fmtid="{D5CDD505-2E9C-101B-9397-08002B2CF9AE}" pid="7" name="PresentationFormat">
    <vt:lpwstr>Předvádění na obrazovce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5</vt:r8>
  </property>
</Properties>
</file>